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219A-4B55-4B5C-AF8A-C6BF6A25B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8982-FCED-4E2D-A6A1-5AA49DBA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E43D-8809-4067-9480-930772779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6355-A943-445F-AC22-D631E6636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9E56C-F0CC-4884-884E-943F280F7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0446-5BAA-46BA-BEFD-5D6967D5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ED5A-D2C4-4FB4-8D72-45A713B1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9B98-3EBA-4F30-A012-80DB7BFF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8C4B-CB39-418B-89DE-2A081340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FA62-856C-4A4F-B137-9AC16410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256C-966F-41AD-AB57-ECD7B569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41FB-596C-4FD4-B1FF-20BA50A5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B142-B4FD-4420-872B-720B83F1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2020-1722-4D0C-8B99-B2DD66C7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46A6-53CB-4F21-AE4D-64B72F29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BDF4-F61C-422C-993A-ECA4BC52A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C533-339E-4207-8493-09B03B4D3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0D76-CC8D-46F7-B854-2D0CE5C1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2371-8B90-47DB-A92C-83FD3E5C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62A7-512E-47B5-9FE3-C834ECB3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ABC5-C400-4310-8EC6-16331E51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BCDB-5321-47FF-AEFB-F74A9CF9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BBE1-D8A2-4B1A-B4CE-7DF54E6B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1F91-C722-48B7-82BC-580A1C93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ACE7-4AD4-49D1-B400-041EECA4535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BA9E-D589-4A39-91D3-438E2917B6F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0000" y="2420640"/>
            <a:ext cx="734544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99cc"/>
                </a:solidFill>
                <a:latin typeface="Monotype Corsiva"/>
              </a:rPr>
              <a:t>Магические квадраты</a:t>
            </a:r>
            <a:endParaRPr b="0" lang="en-US" sz="8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755280" y="549000"/>
            <a:ext cx="77151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Магические квадраты почитались не только у Древнем Китае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Во времена Средневековья в Европе свойства магических квадратов тоже считались волшебными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Магические квадраты служили талисманами, защищая тех, кто их носил, от разных бед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2916360" y="4125960"/>
            <a:ext cx="3527280" cy="229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0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2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50920" y="530280"/>
            <a:ext cx="4632120" cy="59752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5133960" y="4005360"/>
            <a:ext cx="371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Times New Roman"/>
              </a:rPr>
              <a:t>Альбрехт Дюрер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Меланхол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(гравюра на меди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346440" y="5429160"/>
            <a:ext cx="14425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Times New Roman"/>
              </a:rPr>
              <a:t>1514</a:t>
            </a:r>
            <a:r>
              <a:rPr b="0" i="1" lang="en-US" sz="4400" spc="-1" strike="noStrike">
                <a:solidFill>
                  <a:srgbClr val="5e855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год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580000" y="476280"/>
            <a:ext cx="720720" cy="7207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300720" y="476280"/>
            <a:ext cx="720720" cy="7207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020000" y="476280"/>
            <a:ext cx="720720" cy="7207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740720" y="476280"/>
            <a:ext cx="720720" cy="7207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580000" y="1197000"/>
            <a:ext cx="720720" cy="7207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00720" y="1197000"/>
            <a:ext cx="720720" cy="7207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020000" y="1197000"/>
            <a:ext cx="720720" cy="7207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740720" y="1197000"/>
            <a:ext cx="720720" cy="7207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580000" y="1916280"/>
            <a:ext cx="720720" cy="7207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300720" y="1916280"/>
            <a:ext cx="720720" cy="7207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020000" y="1916280"/>
            <a:ext cx="720720" cy="7207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740720" y="1916280"/>
            <a:ext cx="720720" cy="7207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80000" y="2637000"/>
            <a:ext cx="720720" cy="7207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300720" y="2637000"/>
            <a:ext cx="1440000" cy="720720"/>
            <a:chOff x="6300720" y="2637000"/>
            <a:chExt cx="1440000" cy="720720"/>
          </a:xfrm>
        </p:grpSpPr>
        <p:sp>
          <p:nvSpPr>
            <p:cNvPr id="285" name=""/>
            <p:cNvSpPr/>
            <p:nvPr/>
          </p:nvSpPr>
          <p:spPr>
            <a:xfrm>
              <a:off x="6300720" y="2637000"/>
              <a:ext cx="720720" cy="72072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cc"/>
                  </a:solidFill>
                  <a:latin typeface="Times New Roman"/>
                </a:rPr>
                <a:t>15</a:t>
              </a:r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020000" y="2637000"/>
              <a:ext cx="720720" cy="72072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cc"/>
                  </a:solidFill>
                  <a:latin typeface="Times New Roman"/>
                </a:rPr>
                <a:t>14</a:t>
              </a:r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7740720" y="2637000"/>
            <a:ext cx="720720" cy="7207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0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1000"/>
                            </p:stCondLst>
                            <p:childTnLst>
                              <p:par>
                                <p:cTn id="9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3000"/>
                            </p:stCondLst>
                            <p:childTnLst>
                              <p:par>
                                <p:cTn id="9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2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2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5000"/>
                            </p:stCondLst>
                            <p:childTnLst>
                              <p:par>
                                <p:cTn id="9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6000"/>
                            </p:stCondLst>
                            <p:childTnLst>
                              <p:par>
                                <p:cTn id="9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7000"/>
                            </p:stCondLst>
                            <p:childTnLst>
                              <p:par>
                                <p:cTn id="9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5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7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7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9" dur="2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539640" y="256392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1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47640" y="256536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556000" y="256536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9640" y="350028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547640" y="350028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1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56000" y="350028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1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39640" y="450864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547640" y="450864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556000" y="450864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0360" y="195120"/>
            <a:ext cx="86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Monotype Corsiva"/>
              </a:rPr>
              <a:t>Квадрат Дюрера</a:t>
            </a: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 </a:t>
            </a:r>
            <a:r>
              <a:rPr b="0" lang="en-US" sz="4400" spc="-1" strike="noStrike">
                <a:solidFill>
                  <a:srgbClr val="ff99cc"/>
                </a:solidFill>
                <a:latin typeface="Monotype Corsiva"/>
              </a:rPr>
              <a:t>- магический!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644720" y="2635200"/>
            <a:ext cx="8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6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65440" y="2637000"/>
            <a:ext cx="66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3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925960" y="2635200"/>
            <a:ext cx="67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2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717800" y="3571920"/>
            <a:ext cx="66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5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192640" y="3571920"/>
            <a:ext cx="8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0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911560" y="3571920"/>
            <a:ext cx="8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1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689520" y="3571920"/>
            <a:ext cx="66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8=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372000" y="4581360"/>
            <a:ext cx="8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2=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717800" y="4579920"/>
            <a:ext cx="66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9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221080" y="4581360"/>
            <a:ext cx="66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6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780160" y="45813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7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39640" y="544356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547640" y="544356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15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556000" y="544356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1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492360" y="256536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1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492360" y="350028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8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492360" y="450864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1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492360" y="544356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473520" y="2635200"/>
            <a:ext cx="8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3=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717800" y="5516640"/>
            <a:ext cx="66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4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249880" y="5530680"/>
            <a:ext cx="8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5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970600" y="5516640"/>
            <a:ext cx="8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4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715080" y="5516640"/>
            <a:ext cx="67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=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310520" y="3573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cc"/>
                </a:solidFill>
                <a:latin typeface="Times New Roman"/>
              </a:rPr>
              <a:t>34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73280" y="1330200"/>
            <a:ext cx="76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Найдем сумму цифр в каждой строке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310520" y="4581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cc"/>
                </a:solidFill>
                <a:latin typeface="Times New Roman"/>
              </a:rPr>
              <a:t>34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310520" y="5516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cc"/>
                </a:solidFill>
                <a:latin typeface="Times New Roman"/>
              </a:rPr>
              <a:t>34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310520" y="2637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cc"/>
                </a:solidFill>
                <a:latin typeface="Times New Roman"/>
              </a:rPr>
              <a:t>34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0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2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539640" y="277956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1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547640" y="278136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56000" y="278136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9640" y="371628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547640" y="371628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1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371628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1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9640" y="472428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547640" y="472428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56000" y="472428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703760" y="2851200"/>
            <a:ext cx="8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6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95760" y="2851200"/>
            <a:ext cx="66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5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114960" y="2851200"/>
            <a:ext cx="66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9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717800" y="3787920"/>
            <a:ext cx="66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3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294160" y="3787920"/>
            <a:ext cx="8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0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013440" y="3787920"/>
            <a:ext cx="66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6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516720" y="3787920"/>
            <a:ext cx="90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5=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16720" y="4795920"/>
            <a:ext cx="8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4=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748040" y="4795920"/>
            <a:ext cx="66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2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254560" y="4795920"/>
            <a:ext cx="8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1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96160" y="47815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7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39640" y="565956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47640" y="565956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15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556000" y="565956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1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492360" y="278136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1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492360" y="371628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8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92360" y="472428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1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92360" y="565956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676920" y="2851200"/>
            <a:ext cx="66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4=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703760" y="5718240"/>
            <a:ext cx="8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3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479920" y="5732640"/>
            <a:ext cx="66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8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56200" y="5732640"/>
            <a:ext cx="8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2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659640" y="5732640"/>
            <a:ext cx="67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=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19160" y="476280"/>
            <a:ext cx="86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Monotype Corsiva"/>
              </a:rPr>
              <a:t>Квадрат Дюрера</a:t>
            </a: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 </a:t>
            </a:r>
            <a:r>
              <a:rPr b="0" lang="en-US" sz="4400" spc="-1" strike="noStrike">
                <a:solidFill>
                  <a:srgbClr val="ff99cc"/>
                </a:solidFill>
                <a:latin typeface="Monotype Corsiva"/>
              </a:rPr>
              <a:t>- магический!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79280" y="1341360"/>
            <a:ext cx="932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Найдем сумму цифр в каждом столбце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294680" y="2838600"/>
            <a:ext cx="64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cc"/>
                </a:solidFill>
                <a:latin typeface="Times New Roman"/>
              </a:rPr>
              <a:t>34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292880" y="3789360"/>
            <a:ext cx="6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cc"/>
                </a:solidFill>
                <a:latin typeface="Times New Roman"/>
              </a:rPr>
              <a:t>34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292880" y="4797360"/>
            <a:ext cx="6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cc"/>
                </a:solidFill>
                <a:latin typeface="Times New Roman"/>
              </a:rPr>
              <a:t>34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280280" y="5734080"/>
            <a:ext cx="6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cc"/>
                </a:solidFill>
                <a:latin typeface="Times New Roman"/>
              </a:rPr>
              <a:t>34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7" dur="indefinite" restart="never" nodeType="tmRoot">
          <p:childTnLst>
            <p:seq>
              <p:cTn id="1258" dur="indefinite" nodeType="mainSeq">
                <p:childTnLst>
                  <p:par>
                    <p:cTn id="1259" fill="hold">
                      <p:stCondLst>
                        <p:cond delay="0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3" dur="2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7" dur="8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8" dur="8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9" dur="8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5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539640" y="256392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1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547640" y="256536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56000" y="256536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39640" y="350028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547640" y="350028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1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556000" y="350028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1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39640" y="450864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Verdana"/>
              </a:rPr>
              <a:t>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47640" y="450864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556000" y="450864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0360" y="195120"/>
            <a:ext cx="86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Monotype Corsiva"/>
              </a:rPr>
              <a:t>Квадрат Дюрера</a:t>
            </a: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 </a:t>
            </a:r>
            <a:r>
              <a:rPr b="0" lang="en-US" sz="4400" spc="-1" strike="noStrike">
                <a:solidFill>
                  <a:srgbClr val="ff99cc"/>
                </a:solidFill>
                <a:latin typeface="Monotype Corsiva"/>
              </a:rPr>
              <a:t>- магический!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573440" y="3573360"/>
            <a:ext cx="8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6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65440" y="3573360"/>
            <a:ext cx="8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0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157800" y="3573360"/>
            <a:ext cx="66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7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643280" y="4437000"/>
            <a:ext cx="90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3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65440" y="4437000"/>
            <a:ext cx="8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1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57800" y="4437000"/>
            <a:ext cx="66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6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661080" y="4437000"/>
            <a:ext cx="66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4=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39640" y="544356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547640" y="544356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Verdana"/>
              </a:rPr>
              <a:t>15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556000" y="544356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Verdana"/>
              </a:rPr>
              <a:t>1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492360" y="256536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1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492360" y="350028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Verdana"/>
              </a:rPr>
              <a:t>8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492360" y="450864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Verdana"/>
              </a:rPr>
              <a:t>1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492360" y="544356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734160" y="3573360"/>
            <a:ext cx="66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=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268360" y="981000"/>
            <a:ext cx="50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Найдем сумму цифр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в каждой диагонали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59480" y="33480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236000" y="3573360"/>
            <a:ext cx="64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cc"/>
                </a:solidFill>
                <a:latin typeface="Times New Roman"/>
              </a:rPr>
              <a:t>34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236000" y="4437000"/>
            <a:ext cx="64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cc"/>
                </a:solidFill>
                <a:latin typeface="Times New Roman"/>
              </a:rPr>
              <a:t>34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534" dur="indefinite" restart="never" nodeType="tmRoot">
          <p:childTnLst>
            <p:seq>
              <p:cTn id="1535" dur="indefinite" nodeType="mainSeq">
                <p:childTnLst>
                  <p:par>
                    <p:cTn id="1536" fill="hold">
                      <p:stCondLst>
                        <p:cond delay="0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0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4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7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0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3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6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9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2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5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9" dur="8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0" dur="8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1" dur="8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4640"/>
                            </p:stCondLst>
                            <p:childTnLst>
                              <p:par>
                                <p:cTn id="15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5" dur="8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6" dur="8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7" dur="8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3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9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539640" y="256392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1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547640" y="256536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556000" y="256536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39640" y="350028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547640" y="350028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1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556000" y="350028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1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39640" y="450864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547640" y="450864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556000" y="450864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962360" y="195120"/>
            <a:ext cx="487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Monotype Corsiva"/>
              </a:rPr>
              <a:t>Квадрат Дюрера</a:t>
            </a: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833720" y="1989000"/>
            <a:ext cx="8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6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540400" y="1987560"/>
            <a:ext cx="66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3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70320" y="1989000"/>
            <a:ext cx="66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5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805280" y="2925720"/>
            <a:ext cx="66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2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294160" y="2925720"/>
            <a:ext cx="8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3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13440" y="2925720"/>
            <a:ext cx="8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1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806880" y="2925720"/>
            <a:ext cx="66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8=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850080" y="5530680"/>
            <a:ext cx="66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7=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790880" y="5516640"/>
            <a:ext cx="8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0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511600" y="5516640"/>
            <a:ext cx="8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1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288120" y="55166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6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39640" y="544356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547640" y="544356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15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556000" y="544356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1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492360" y="256536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1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492360" y="350028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8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492360" y="450864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1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492360" y="544356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573600" y="1989000"/>
            <a:ext cx="8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0=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811760" y="3774960"/>
            <a:ext cx="67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9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94240" y="3774960"/>
            <a:ext cx="66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6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997600" y="3789360"/>
            <a:ext cx="67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4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591240" y="380376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5=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30320" y="1020600"/>
            <a:ext cx="88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Найдем сумму цифр в каждом квадрате 2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×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789440" y="4581360"/>
            <a:ext cx="66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7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322600" y="4581360"/>
            <a:ext cx="8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2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057720" y="4581360"/>
            <a:ext cx="8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4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804000" y="458136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=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432560" y="183528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380360" y="4581360"/>
            <a:ext cx="64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cc"/>
                </a:solidFill>
                <a:latin typeface="Times New Roman"/>
              </a:rPr>
              <a:t>34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380360" y="3789360"/>
            <a:ext cx="64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cc"/>
                </a:solidFill>
                <a:latin typeface="Times New Roman"/>
              </a:rPr>
              <a:t>34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380360" y="2924280"/>
            <a:ext cx="64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cc"/>
                </a:solidFill>
                <a:latin typeface="Times New Roman"/>
              </a:rPr>
              <a:t>34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80360" y="1989000"/>
            <a:ext cx="64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cc"/>
                </a:solidFill>
                <a:latin typeface="Times New Roman"/>
              </a:rPr>
              <a:t>34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396200" y="5516640"/>
            <a:ext cx="64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cc"/>
                </a:solidFill>
                <a:latin typeface="Times New Roman"/>
              </a:rPr>
              <a:t>34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710" dur="indefinite" restart="never" nodeType="tmRoot">
          <p:childTnLst>
            <p:seq>
              <p:cTn id="1711" dur="indefinite" nodeType="mainSeq">
                <p:childTnLst>
                  <p:par>
                    <p:cTn id="1712" fill="hold">
                      <p:stCondLst>
                        <p:cond delay="0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6" dur="2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0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1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2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4" fill="hold">
                      <p:stCondLst>
                        <p:cond delay="indefinite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8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4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fill="hold">
                      <p:stCondLst>
                        <p:cond delay="indefinite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fill="hold">
                      <p:stCondLst>
                        <p:cond delay="indefinite"/>
                      </p:stCondLst>
                      <p:childTnLst>
                        <p:par>
                          <p:cTn id="1937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0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6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4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1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8" dur="2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5" dur="2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0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438120" y="21362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Рассмотрим способ получения магического квадрата 4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×</a:t>
            </a: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4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1" dur="indefinite" restart="never" nodeType="tmRoot">
          <p:childTnLst>
            <p:seq>
              <p:cTn id="2052" dur="indefinite" nodeType="mainSeq">
                <p:childTnLst>
                  <p:par>
                    <p:cTn id="2053" fill="hold">
                      <p:stCondLst>
                        <p:cond delay="0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7" dur="8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8" dur="8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9" dur="8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8" name=""/>
          <p:cNvGraphicFramePr/>
          <p:nvPr/>
        </p:nvGraphicFramePr>
        <p:xfrm>
          <a:off x="2340000" y="1916280"/>
          <a:ext cx="4319640" cy="3960720"/>
        </p:xfrm>
        <a:graphic>
          <a:graphicData uri="http://schemas.openxmlformats.org/drawingml/2006/table">
            <a:tbl>
              <a:tblPr/>
              <a:tblGrid>
                <a:gridCol w="1079640"/>
                <a:gridCol w="1080000"/>
                <a:gridCol w="1080000"/>
                <a:gridCol w="1080000"/>
              </a:tblGrid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9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9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9" name=""/>
          <p:cNvSpPr/>
          <p:nvPr/>
        </p:nvSpPr>
        <p:spPr>
          <a:xfrm>
            <a:off x="707760" y="237960"/>
            <a:ext cx="777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Впишем в квадрат числа от 1 до 16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по порядку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628720" y="198900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708360" y="198900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789440" y="198900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708360" y="29973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869080" y="198900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869080" y="29973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788000" y="2997360"/>
            <a:ext cx="48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627280" y="2997360"/>
            <a:ext cx="48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548160" y="494172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4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614840" y="494172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5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484360" y="4941720"/>
            <a:ext cx="93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3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710320" y="4940280"/>
            <a:ext cx="96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587840" y="3933720"/>
            <a:ext cx="93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1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521160" y="393372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0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678640" y="393372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641680" y="3933720"/>
            <a:ext cx="48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0" dur="indefinite" restart="never" nodeType="tmRoot">
          <p:childTnLst>
            <p:seq>
              <p:cTn id="2061" dur="indefinite" nodeType="mainSeq">
                <p:childTnLst>
                  <p:par>
                    <p:cTn id="2062" fill="hold">
                      <p:stCondLst>
                        <p:cond delay="0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9" fill="hold">
                            <p:stCondLst>
                              <p:cond delay="500"/>
                            </p:stCondLst>
                            <p:childTnLst>
                              <p:par>
                                <p:cTn id="20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2" dur="8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3" dur="8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4" dur="8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5" fill="hold">
                            <p:stCondLst>
                              <p:cond delay="1580"/>
                            </p:stCondLst>
                            <p:childTnLst>
                              <p:par>
                                <p:cTn id="20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8" dur="8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9" dur="8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0" dur="8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1" fill="hold">
                            <p:stCondLst>
                              <p:cond delay="2020"/>
                            </p:stCondLst>
                            <p:childTnLst>
                              <p:par>
                                <p:cTn id="20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7" fill="hold">
                            <p:stCondLst>
                              <p:cond delay="2520"/>
                            </p:stCondLst>
                            <p:childTnLst>
                              <p:par>
                                <p:cTn id="20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3" fill="hold">
                            <p:stCondLst>
                              <p:cond delay="3020"/>
                            </p:stCondLst>
                            <p:childTnLst>
                              <p:par>
                                <p:cTn id="20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fill="hold">
                            <p:stCondLst>
                              <p:cond delay="3520"/>
                            </p:stCondLst>
                            <p:childTnLst>
                              <p:par>
                                <p:cTn id="2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4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5" fill="hold">
                            <p:stCondLst>
                              <p:cond delay="4019"/>
                            </p:stCondLst>
                            <p:childTnLst>
                              <p:par>
                                <p:cTn id="2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8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0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fill="hold">
                            <p:stCondLst>
                              <p:cond delay="4520"/>
                            </p:stCondLst>
                            <p:childTnLst>
                              <p:par>
                                <p:cTn id="2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4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6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7" fill="hold">
                            <p:stCondLst>
                              <p:cond delay="5020"/>
                            </p:stCondLst>
                            <p:childTnLst>
                              <p:par>
                                <p:cTn id="2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0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1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2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3" fill="hold">
                            <p:stCondLst>
                              <p:cond delay="5520"/>
                            </p:stCondLst>
                            <p:childTnLst>
                              <p:par>
                                <p:cTn id="2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6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7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8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9" fill="hold">
                            <p:stCondLst>
                              <p:cond delay="6020"/>
                            </p:stCondLst>
                            <p:childTnLst>
                              <p:par>
                                <p:cTn id="2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2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3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4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5" fill="hold">
                            <p:stCondLst>
                              <p:cond delay="6520"/>
                            </p:stCondLst>
                            <p:childTnLst>
                              <p:par>
                                <p:cTn id="2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8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0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1" fill="hold">
                            <p:stCondLst>
                              <p:cond delay="7020"/>
                            </p:stCondLst>
                            <p:childTnLst>
                              <p:par>
                                <p:cTn id="2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4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5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6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fill="hold">
                            <p:stCondLst>
                              <p:cond delay="7520"/>
                            </p:stCondLst>
                            <p:childTnLst>
                              <p:par>
                                <p:cTn id="2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0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1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2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3" fill="hold">
                            <p:stCondLst>
                              <p:cond delay="8020"/>
                            </p:stCondLst>
                            <p:childTnLst>
                              <p:par>
                                <p:cTn id="2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6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8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9" fill="hold">
                            <p:stCondLst>
                              <p:cond delay="8520"/>
                            </p:stCondLst>
                            <p:childTnLst>
                              <p:par>
                                <p:cTn id="2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2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3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4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5" fill="hold">
                            <p:stCondLst>
                              <p:cond delay="9020"/>
                            </p:stCondLst>
                            <p:childTnLst>
                              <p:par>
                                <p:cTn id="2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8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9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0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1" fill="hold">
                            <p:stCondLst>
                              <p:cond delay="9520"/>
                            </p:stCondLst>
                            <p:childTnLst>
                              <p:par>
                                <p:cTn id="2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4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6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6" name=""/>
          <p:cNvGraphicFramePr/>
          <p:nvPr/>
        </p:nvGraphicFramePr>
        <p:xfrm>
          <a:off x="2627280" y="2276640"/>
          <a:ext cx="4319640" cy="3960720"/>
        </p:xfrm>
        <a:graphic>
          <a:graphicData uri="http://schemas.openxmlformats.org/drawingml/2006/table">
            <a:tbl>
              <a:tblPr/>
              <a:tblGrid>
                <a:gridCol w="1079640"/>
                <a:gridCol w="1080000"/>
                <a:gridCol w="1080000"/>
                <a:gridCol w="1080000"/>
              </a:tblGrid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9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9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7" name=""/>
          <p:cNvSpPr/>
          <p:nvPr/>
        </p:nvSpPr>
        <p:spPr>
          <a:xfrm>
            <a:off x="2916000" y="23493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995640" y="23493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076720" y="23493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995640" y="335772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156360" y="23493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156360" y="335772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075280" y="3357720"/>
            <a:ext cx="48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3357720"/>
            <a:ext cx="48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835440" y="530208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4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902120" y="530208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5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771640" y="5302080"/>
            <a:ext cx="93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3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997600" y="5300640"/>
            <a:ext cx="96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875120" y="4294080"/>
            <a:ext cx="9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1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808440" y="429408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0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965920" y="429408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28960" y="4294080"/>
            <a:ext cx="48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901800" y="189000"/>
            <a:ext cx="7837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Поменяем местами числа,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стоящие в противоположных углах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квадрата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156360" y="5300640"/>
            <a:ext cx="50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773440" y="234936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917800" y="530064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913360" y="2371680"/>
            <a:ext cx="93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3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7" dur="indefinite" restart="never" nodeType="tmRoot">
          <p:childTnLst>
            <p:seq>
              <p:cTn id="2178" dur="indefinite" nodeType="mainSeq">
                <p:childTnLst>
                  <p:par>
                    <p:cTn id="2179" fill="hold">
                      <p:stCondLst>
                        <p:cond delay="0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3" dur="8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4" dur="8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5" dur="8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6" fill="hold">
                            <p:stCondLst>
                              <p:cond delay="880"/>
                            </p:stCondLst>
                            <p:childTnLst>
                              <p:par>
                                <p:cTn id="2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9" dur="8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0" dur="8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1" dur="8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2" fill="hold">
                            <p:stCondLst>
                              <p:cond delay="2040"/>
                            </p:stCondLst>
                            <p:childTnLst>
                              <p:par>
                                <p:cTn id="21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5" dur="8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6" dur="8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7" dur="8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8" fill="hold">
                            <p:stCondLst>
                              <p:cond delay="2440"/>
                            </p:stCondLst>
                            <p:childTnLst>
                              <p:par>
                                <p:cTn id="2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1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4" dur="20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7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0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3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6" dur="20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9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2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5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8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1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4" dur="20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7" dur="20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0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3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6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9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4" fill="hold">
                            <p:stCondLst>
                              <p:cond delay="0"/>
                            </p:stCondLst>
                            <p:childTnLst>
                              <p:par>
                                <p:cTn id="22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0" dur="1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1" dur="1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2" dur="1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6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7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8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8" dur="10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9" dur="10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0" dur="10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4" dur="10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5" dur="10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6" dur="10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8" name=""/>
          <p:cNvGraphicFramePr/>
          <p:nvPr/>
        </p:nvGraphicFramePr>
        <p:xfrm>
          <a:off x="2365200" y="2133720"/>
          <a:ext cx="4319640" cy="3960720"/>
        </p:xfrm>
        <a:graphic>
          <a:graphicData uri="http://schemas.openxmlformats.org/drawingml/2006/table">
            <a:tbl>
              <a:tblPr/>
              <a:tblGrid>
                <a:gridCol w="1079640"/>
                <a:gridCol w="1080000"/>
                <a:gridCol w="1080000"/>
                <a:gridCol w="1080000"/>
              </a:tblGrid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9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9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9" name=""/>
          <p:cNvSpPr/>
          <p:nvPr/>
        </p:nvSpPr>
        <p:spPr>
          <a:xfrm>
            <a:off x="2509920" y="21906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719520" y="219060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802040" y="21765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720960" y="321300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721480" y="21906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3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908680" y="321300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829040" y="3213000"/>
            <a:ext cx="48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666880" y="3213000"/>
            <a:ext cx="48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544920" y="515772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4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583160" y="5173560"/>
            <a:ext cx="107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5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671920" y="5143680"/>
            <a:ext cx="93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865840" y="5140440"/>
            <a:ext cx="96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600440" y="4149720"/>
            <a:ext cx="9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1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548160" y="4149720"/>
            <a:ext cx="93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0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705640" y="414972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682720" y="4149720"/>
            <a:ext cx="48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41440" y="0"/>
            <a:ext cx="7963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Поменяем местами числа,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стоящие в противоположных углах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центрального квадрата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778280" y="41781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720960" y="4176720"/>
            <a:ext cx="48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654440" y="322740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0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510000" y="3201840"/>
            <a:ext cx="93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1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913320" y="631800"/>
            <a:ext cx="72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cc"/>
                </a:solidFill>
                <a:latin typeface="Monotype Corsiva"/>
              </a:rPr>
              <a:t>Квадрат магический!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7" dur="indefinite" restart="never" nodeType="tmRoot">
          <p:childTnLst>
            <p:seq>
              <p:cTn id="2288" dur="indefinite" nodeType="mainSeq">
                <p:childTnLst>
                  <p:par>
                    <p:cTn id="2289" fill="hold">
                      <p:stCondLst>
                        <p:cond delay="0"/>
                      </p:stCondLst>
                      <p:childTnLst>
                        <p:par>
                          <p:cTn id="2290" fill="hold">
                            <p:stCondLst>
                              <p:cond delay="0"/>
                            </p:stCondLst>
                            <p:childTnLst>
                              <p:par>
                                <p:cTn id="22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3" dur="8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4" dur="8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5" dur="8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6" fill="hold">
                            <p:stCondLst>
                              <p:cond delay="880"/>
                            </p:stCondLst>
                            <p:childTnLst>
                              <p:par>
                                <p:cTn id="22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9" dur="8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0" dur="8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1" dur="8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2" fill="hold">
                            <p:stCondLst>
                              <p:cond delay="2040"/>
                            </p:stCondLst>
                            <p:childTnLst>
                              <p:par>
                                <p:cTn id="23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5" dur="8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6" dur="8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7" dur="8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8" fill="hold">
                            <p:stCondLst>
                              <p:cond delay="2920"/>
                            </p:stCondLst>
                            <p:childTnLst>
                              <p:par>
                                <p:cTn id="2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1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4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7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0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3" dur="2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6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9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2" dur="2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5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8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1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4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7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0" dur="20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3" dur="2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6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9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0" fill="hold">
                      <p:stCondLst>
                        <p:cond delay="indefinite"/>
                      </p:stCondLst>
                      <p:childTnLst>
                        <p:par>
                          <p:cTn id="2361" fill="hold">
                            <p:stCondLst>
                              <p:cond delay="0"/>
                            </p:stCondLst>
                            <p:childTnLst>
                              <p:par>
                                <p:cTn id="23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0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1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2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6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7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8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8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9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0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4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5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6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8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0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2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7" dur="10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8" dur="10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9" dur="1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Сообразительный император сразу понял смысл этого рисунк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0920" y="333000"/>
            <a:ext cx="784836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Существует предание, согласно которому китайский император Ию, живший четыре тысячи лет назад, увидел однажды на берегу реки священную черепаху с узором из черных и белых кружков на панцире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002200" y="3716280"/>
            <a:ext cx="1635120" cy="16416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340000" y="3716280"/>
            <a:ext cx="1596960" cy="164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38120" y="21362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Рассмотрим способ получения магического квадрата 5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×</a:t>
            </a: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5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0" dur="indefinite" restart="never" nodeType="tmRoot">
          <p:childTnLst>
            <p:seq>
              <p:cTn id="2411" dur="indefinite" nodeType="mainSeq">
                <p:childTnLst>
                  <p:par>
                    <p:cTn id="2412" fill="hold">
                      <p:stCondLst>
                        <p:cond delay="0"/>
                      </p:stCondLst>
                      <p:childTnLst>
                        <p:par>
                          <p:cTn id="2413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6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7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8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Впишем в квадрат числа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от 1 до 25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2832120" y="2049480"/>
          <a:ext cx="3457440" cy="3178080"/>
        </p:xfrm>
        <a:graphic>
          <a:graphicData uri="http://schemas.openxmlformats.org/drawingml/2006/table">
            <a:tbl>
              <a:tblPr/>
              <a:tblGrid>
                <a:gridCol w="691920"/>
                <a:gridCol w="690840"/>
                <a:gridCol w="691920"/>
                <a:gridCol w="690480"/>
                <a:gridCol w="692280"/>
              </a:tblGrid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4" name=""/>
          <p:cNvSpPr/>
          <p:nvPr/>
        </p:nvSpPr>
        <p:spPr>
          <a:xfrm>
            <a:off x="2255760" y="2760840"/>
            <a:ext cx="5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255760" y="3409920"/>
            <a:ext cx="5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255760" y="4030560"/>
            <a:ext cx="5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255760" y="4651200"/>
            <a:ext cx="5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903400" y="5289480"/>
            <a:ext cx="5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978440" y="530388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904480" y="21225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625200" y="21225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422600" y="2122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068800" y="2122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641560" y="21225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665320" y="27590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017680" y="27590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397400" y="2757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725640" y="2757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904480" y="27702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039840" y="3394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942640" y="40165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915640" y="46530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625200" y="46544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628440" y="40165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686040" y="3394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285800" y="3381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273200" y="46418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298400" y="40165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993920" y="3381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677920" y="3381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775120" y="4040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030280" y="40291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065560" y="4641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786280" y="4641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934200" y="588960"/>
            <a:ext cx="72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cc"/>
                </a:solidFill>
                <a:latin typeface="Monotype Corsiva"/>
              </a:rPr>
              <a:t>Квадрат магический!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636360" y="53006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446360" y="5300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9" dur="indefinite" restart="never" nodeType="tmRoot">
          <p:childTnLst>
            <p:seq>
              <p:cTn id="2420" dur="indefinite" nodeType="mainSeq">
                <p:childTnLst>
                  <p:par>
                    <p:cTn id="2421" fill="hold">
                      <p:stCondLst>
                        <p:cond delay="0"/>
                      </p:stCondLst>
                      <p:childTnLst>
                        <p:par>
                          <p:cTn id="2422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5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6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7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8" fill="hold">
                            <p:stCondLst>
                              <p:cond delay="1240"/>
                            </p:stCondLst>
                            <p:childTnLst>
                              <p:par>
                                <p:cTn id="2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1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3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4" fill="hold">
                            <p:stCondLst>
                              <p:cond delay="2240"/>
                            </p:stCondLst>
                            <p:childTnLst>
                              <p:par>
                                <p:cTn id="24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2" fill="hold">
                      <p:stCondLst>
                        <p:cond delay="indefinite"/>
                      </p:stCondLst>
                      <p:childTnLst>
                        <p:par>
                          <p:cTn id="2453" fill="hold">
                            <p:stCondLst>
                              <p:cond delay="0"/>
                            </p:stCondLst>
                            <p:childTnLst>
                              <p:par>
                                <p:cTn id="2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7" fill="hold">
                      <p:stCondLst>
                        <p:cond delay="indefinite"/>
                      </p:stCondLst>
                      <p:childTnLst>
                        <p:par>
                          <p:cTn id="2458" fill="hold">
                            <p:stCondLst>
                              <p:cond delay="0"/>
                            </p:stCondLst>
                            <p:childTnLst>
                              <p:par>
                                <p:cTn id="2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2" fill="hold">
                            <p:stCondLst>
                              <p:cond delay="500"/>
                            </p:stCondLst>
                            <p:childTnLst>
                              <p:par>
                                <p:cTn id="24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6" fill="hold">
                      <p:stCondLst>
                        <p:cond delay="indefinite"/>
                      </p:stCondLst>
                      <p:childTnLst>
                        <p:par>
                          <p:cTn id="2467" fill="hold">
                            <p:stCondLst>
                              <p:cond delay="0"/>
                            </p:stCondLst>
                            <p:childTnLst>
                              <p:par>
                                <p:cTn id="2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1" fill="hold">
                      <p:stCondLst>
                        <p:cond delay="indefinite"/>
                      </p:stCondLst>
                      <p:childTnLst>
                        <p:par>
                          <p:cTn id="2472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0" fill="hold">
                      <p:stCondLst>
                        <p:cond delay="indefinite"/>
                      </p:stCondLst>
                      <p:childTnLst>
                        <p:par>
                          <p:cTn id="2491" fill="hold">
                            <p:stCondLst>
                              <p:cond delay="0"/>
                            </p:stCondLst>
                            <p:childTnLst>
                              <p:par>
                                <p:cTn id="2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5" fill="hold">
                      <p:stCondLst>
                        <p:cond delay="indefinite"/>
                      </p:stCondLst>
                      <p:childTnLst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0" fill="hold">
                      <p:stCondLst>
                        <p:cond delay="indefinite"/>
                      </p:stCondLst>
                      <p:childTnLst>
                        <p:par>
                          <p:cTn id="2501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5" fill="hold">
                      <p:stCondLst>
                        <p:cond delay="indefinite"/>
                      </p:stCondLst>
                      <p:childTnLst>
                        <p:par>
                          <p:cTn id="2506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2" fill="hold">
                      <p:stCondLst>
                        <p:cond delay="indefinite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7" fill="hold">
                      <p:stCondLst>
                        <p:cond delay="indefinite"/>
                      </p:stCondLst>
                      <p:childTnLst>
                        <p:par>
                          <p:cTn id="2528" fill="hold">
                            <p:stCondLst>
                              <p:cond delay="0"/>
                            </p:stCondLst>
                            <p:childTnLst>
                              <p:par>
                                <p:cTn id="2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2" fill="hold">
                      <p:stCondLst>
                        <p:cond delay="indefinite"/>
                      </p:stCondLst>
                      <p:childTnLst>
                        <p:par>
                          <p:cTn id="2533" fill="hold">
                            <p:stCondLst>
                              <p:cond delay="0"/>
                            </p:stCondLst>
                            <p:childTnLst>
                              <p:par>
                                <p:cTn id="2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7" fill="hold">
                      <p:stCondLst>
                        <p:cond delay="indefinite"/>
                      </p:stCondLst>
                      <p:childTnLst>
                        <p:par>
                          <p:cTn id="2538" fill="hold">
                            <p:stCondLst>
                              <p:cond delay="0"/>
                            </p:stCondLst>
                            <p:childTnLst>
                              <p:par>
                                <p:cTn id="2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2" fill="hold">
                      <p:stCondLst>
                        <p:cond delay="indefinite"/>
                      </p:stCondLst>
                      <p:childTnLst>
                        <p:par>
                          <p:cTn id="2543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7" fill="hold">
                            <p:stCondLst>
                              <p:cond delay="500"/>
                            </p:stCondLst>
                            <p:childTnLst>
                              <p:par>
                                <p:cTn id="25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5" fill="hold">
                      <p:stCondLst>
                        <p:cond delay="indefinite"/>
                      </p:stCondLst>
                      <p:childTnLst>
                        <p:par>
                          <p:cTn id="2556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5" fill="hold">
                      <p:stCondLst>
                        <p:cond delay="indefinite"/>
                      </p:stCondLst>
                      <p:childTnLst>
                        <p:par>
                          <p:cTn id="2566" fill="hold">
                            <p:stCondLst>
                              <p:cond delay="0"/>
                            </p:stCondLst>
                            <p:childTnLst>
                              <p:par>
                                <p:cTn id="2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fill="hold">
                      <p:stCondLst>
                        <p:cond delay="indefinite"/>
                      </p:stCondLst>
                      <p:childTnLst>
                        <p:par>
                          <p:cTn id="2571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5" fill="hold">
                            <p:stCondLst>
                              <p:cond delay="500"/>
                            </p:stCondLst>
                            <p:childTnLst>
                              <p:par>
                                <p:cTn id="25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8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9" fill="hold">
                      <p:stCondLst>
                        <p:cond delay="indefinite"/>
                      </p:stCondLst>
                      <p:childTnLst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9" fill="hold">
                      <p:stCondLst>
                        <p:cond delay="indefinite"/>
                      </p:stCondLst>
                      <p:childTnLst>
                        <p:par>
                          <p:cTn id="2590" fill="hold">
                            <p:stCondLst>
                              <p:cond delay="0"/>
                            </p:stCondLst>
                            <p:childTnLst>
                              <p:par>
                                <p:cTn id="25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7" fill="hold">
                            <p:stCondLst>
                              <p:cond delay="0"/>
                            </p:stCondLst>
                            <p:childTnLst>
                              <p:par>
                                <p:cTn id="2608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0" fill="hold">
                            <p:stCondLst>
                              <p:cond delay="0"/>
                            </p:stCondLst>
                            <p:childTnLst>
                              <p:par>
                                <p:cTn id="26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3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419280" y="404280"/>
            <a:ext cx="540036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Автор работы: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Самаркина Варвара,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ученица 5 класса школы №7 г.Сегежи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Республики Карел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468360" y="474840"/>
            <a:ext cx="2663640" cy="223344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6877080" y="3860640"/>
            <a:ext cx="1940040" cy="253224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2047320" y="5300640"/>
            <a:ext cx="468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Руководитель: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Фокина Татьяна Юрьевн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4" dur="indefinite" restart="never" nodeType="tmRoot">
          <p:childTnLst>
            <p:seq>
              <p:cTn id="2615" dur="indefinite" nodeType="mainSeq">
                <p:childTnLst>
                  <p:par>
                    <p:cTn id="2616" fill="hold">
                      <p:stCondLst>
                        <p:cond delay="0"/>
                      </p:stCondLst>
                      <p:childTnLst>
                        <p:par>
                          <p:cTn id="2617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1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2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5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6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7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1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4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8200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Литература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30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Математика: учеб. для 5 кл. общеобразоват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30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учреждений/ Г.В. Дорофеев, И.Ф. Шарыгин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30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С.Б. Суворова и др. – М.: Просвещение: Дрофа, 2006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30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- За страницами учебника математики: Пособие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30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для учащихся 5-6 кл. сред. шк./ И.Я. Депман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30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Н.Я. Виленкин – М.: Просвещение, 1989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30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30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Интернет-ресурсы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30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http://images.yandex.ru/yandsearch?p=3&amp;ed=1&amp;text=%D0%A1%D1%80%D0%B5%D0%B4%D0%BD%D0%B5%D0%B2%D0%B5%D0%BA%D0%BE%D0%B2%D1%8C%D0%B5&amp;stype=imag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930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http://images.yandex.ru/yandsearch?text=%D0%94%D1%8E%D1%80%D0%B5%D1%80+%22%D0%9C%D0%B5%D0%BB%D0%B0%D0%BD%D1%85%D0%BE%D0%BB%D0%B8%D1%8F%22&amp;stype=imag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930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930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72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5" dur="indefinite" restart="never" nodeType="tmRoot">
          <p:childTnLst>
            <p:seq>
              <p:cTn id="2636" dur="indefinite" nodeType="mainSeq">
                <p:childTnLst>
                  <p:par>
                    <p:cTn id="2637" fill="hold">
                      <p:stCondLst>
                        <p:cond delay="0"/>
                      </p:stCondLst>
                      <p:childTnLst>
                        <p:par>
                          <p:cTn id="2638" fill="hold">
                            <p:stCondLst>
                              <p:cond delay="0"/>
                            </p:stCondLst>
                            <p:childTnLst>
                              <p:par>
                                <p:cTn id="26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1" dur="2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4" dur="20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7" dur="20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0" dur="20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3" dur="20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6" dur="20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9" dur="2000"/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2" dur="2000"/>
                                        <p:tgtEl>
                                          <p:spTgt spid="5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5" dur="20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8" dur="2000"/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00000" y="242100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8000" y="2422440"/>
            <a:ext cx="72108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16360" y="242244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00000" y="335772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8000" y="3357720"/>
            <a:ext cx="72108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16360" y="335772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436572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8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08000" y="4365720"/>
            <a:ext cx="72108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16360" y="436572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84320" y="189000"/>
            <a:ext cx="483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Найдём сумму чисел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в каждой строке.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33960" y="2400480"/>
            <a:ext cx="101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=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99cc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08640" y="2384280"/>
            <a:ext cx="66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4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75280" y="2394000"/>
            <a:ext cx="66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9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70720" y="2384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08640" y="3402000"/>
            <a:ext cx="66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3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67360" y="3403440"/>
            <a:ext cx="66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5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64240" y="3411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16680" y="3402000"/>
            <a:ext cx="101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=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99cc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89680" y="4390920"/>
            <a:ext cx="101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=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99cc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08640" y="4402080"/>
            <a:ext cx="66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8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30640" y="4402080"/>
            <a:ext cx="66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24640" y="440064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80"/>
                            </p:stCondLst>
                            <p:childTnLst>
                              <p:par>
                                <p:cTn id="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129040" y="260280"/>
            <a:ext cx="483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Найдём сумму чисел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в каждом столбце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78520" y="2349360"/>
            <a:ext cx="101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=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99cc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81440" y="2349360"/>
            <a:ext cx="66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4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81440" y="3429000"/>
            <a:ext cx="66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9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53080" y="4365720"/>
            <a:ext cx="66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2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86160" y="2349360"/>
            <a:ext cx="66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3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57800" y="3429000"/>
            <a:ext cx="66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5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57800" y="4365720"/>
            <a:ext cx="66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7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78520" y="3429000"/>
            <a:ext cx="101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=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99cc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949800" y="4365720"/>
            <a:ext cx="101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=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99cc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89800" y="2349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59640" y="3429000"/>
            <a:ext cx="41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59640" y="4365720"/>
            <a:ext cx="5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00000" y="242100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08000" y="2422440"/>
            <a:ext cx="72108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16360" y="242244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335772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08000" y="3357720"/>
            <a:ext cx="72108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16360" y="335772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00000" y="436572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8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8000" y="4365720"/>
            <a:ext cx="72108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16360" y="436572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80"/>
                            </p:stCondLst>
                            <p:childTnLst>
                              <p:par>
                                <p:cTn id="2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984320" y="260280"/>
            <a:ext cx="483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Найдём сумму чисел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в каждой диагонали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78520" y="3357720"/>
            <a:ext cx="101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=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99cc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37080" y="2349360"/>
            <a:ext cx="66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4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37080" y="3357720"/>
            <a:ext cx="66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2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81400" y="2349360"/>
            <a:ext cx="66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5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62680" y="2363760"/>
            <a:ext cx="101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=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99cc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18160" y="3357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516720" y="23637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11160" y="234792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08000" y="2349360"/>
            <a:ext cx="72108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855b"/>
                </a:solidFill>
                <a:latin typeface="Verdana"/>
              </a:rPr>
              <a:t>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16360" y="234936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328464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855b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08000" y="3284640"/>
            <a:ext cx="72108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16360" y="328464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855b"/>
                </a:solidFill>
                <a:latin typeface="Verdana"/>
              </a:rPr>
              <a:t>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429264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8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08000" y="4292640"/>
            <a:ext cx="72108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855b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16360" y="4292640"/>
            <a:ext cx="72072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41800" y="3357720"/>
            <a:ext cx="66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5+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680"/>
                            </p:stCondLst>
                            <p:childTnLst>
                              <p:par>
                                <p:cTn id="3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500"/>
                            </p:stCondLst>
                            <p:childTnLst>
                              <p:par>
                                <p:cTn id="4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552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Как же составить магический квадрат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465360" y="2638440"/>
            <a:ext cx="1984680" cy="20019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843160" y="321300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280"/>
                            </p:stCondLst>
                            <p:childTnLst>
                              <p:par>
                                <p:cTn id="4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280"/>
                            </p:stCondLst>
                            <p:childTnLst>
                              <p:par>
                                <p:cTn id="5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1267920"/>
            <a:ext cx="23763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5:3=15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732720" y="549360"/>
            <a:ext cx="1635120" cy="16412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57560" y="560520"/>
            <a:ext cx="449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+2+3+4+5+6+7+8+9=45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348000" y="4508640"/>
          <a:ext cx="1822320" cy="1950840"/>
        </p:xfrm>
        <a:graphic>
          <a:graphicData uri="http://schemas.openxmlformats.org/drawingml/2006/table">
            <a:tbl>
              <a:tblPr/>
              <a:tblGrid>
                <a:gridCol w="608040"/>
                <a:gridCol w="615960"/>
                <a:gridCol w="598320"/>
              </a:tblGrid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4717440" y="3286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17440" y="2852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01560" y="3740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14160" y="24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40720" y="234936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15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529128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68720" y="51436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cc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52640" y="4451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56000" y="4451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54440" y="57913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39800" y="57754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68720" y="5805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032240" y="28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81080" y="242100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60360" y="242100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60360" y="285264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60360" y="328608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60360" y="371808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33560" y="242100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37080" y="242100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20720" y="242100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76720" y="242100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20720" y="285264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285264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14160" y="2852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844720" y="285264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76720" y="242100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76720" y="285264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637080" y="285264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20720" y="328608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81080" y="285264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81080" y="328608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13080" y="328608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844720" y="328608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76720" y="328608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37080" y="328608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20720" y="371808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81080" y="371808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844720" y="371808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371808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24360" y="242100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284720" y="242100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17440" y="24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242100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580000" y="242100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940360" y="242100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284720" y="242100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24360" y="285264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84720" y="285264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48360" y="285264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580000" y="285264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40360" y="285264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284720" y="285264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24360" y="328608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84720" y="328608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48360" y="328608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80000" y="328608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40360" y="328608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240600" y="283068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00960" y="283068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464600" y="2830680"/>
            <a:ext cx="3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896240" y="283068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172360" y="285264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419640" y="5145120"/>
            <a:ext cx="4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57680" y="5127480"/>
            <a:ext cx="42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067280" y="4437000"/>
            <a:ext cx="42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9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000"/>
                            </p:stCondLst>
                            <p:childTnLst>
                              <p:par>
                                <p:cTn id="7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7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0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1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1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3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2000"/>
                            </p:stCondLst>
                            <p:childTnLst>
                              <p:par>
                                <p:cTn id="71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4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4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2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2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9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3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1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3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3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5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3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7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2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4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1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4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3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4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5" dur="2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4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7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2000"/>
                            </p:stCondLst>
                            <p:childTnLst>
                              <p:par>
                                <p:cTn id="74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3000"/>
                            </p:stCondLst>
                            <p:childTnLst>
                              <p:par>
                                <p:cTn id="75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4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4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4000"/>
                            </p:stCondLst>
                            <p:childTnLst>
                              <p:par>
                                <p:cTn id="76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7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4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4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4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4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000"/>
                            </p:stCondLst>
                            <p:childTnLst>
                              <p:par>
                                <p:cTn id="79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4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4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2000"/>
                            </p:stCondLst>
                            <p:childTnLst>
                              <p:par>
                                <p:cTn id="79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4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4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3000"/>
                            </p:stCondLst>
                            <p:childTnLst>
                              <p:par>
                                <p:cTn id="80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4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4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611280" y="333000"/>
            <a:ext cx="7416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Все 8 различных магических квадратов из чисел от 1 до 9 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539640" y="1773360"/>
          <a:ext cx="1656000" cy="161928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2700360" y="1773360"/>
          <a:ext cx="1655640" cy="1617480"/>
        </p:xfrm>
        <a:graphic>
          <a:graphicData uri="http://schemas.openxmlformats.org/drawingml/2006/table">
            <a:tbl>
              <a:tblPr/>
              <a:tblGrid>
                <a:gridCol w="551880"/>
                <a:gridCol w="551880"/>
                <a:gridCol w="551880"/>
              </a:tblGrid>
              <a:tr h="53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788000" y="1773360"/>
          <a:ext cx="1655640" cy="1617480"/>
        </p:xfrm>
        <a:graphic>
          <a:graphicData uri="http://schemas.openxmlformats.org/drawingml/2006/table">
            <a:tbl>
              <a:tblPr/>
              <a:tblGrid>
                <a:gridCol w="551880"/>
                <a:gridCol w="551880"/>
                <a:gridCol w="551880"/>
              </a:tblGrid>
              <a:tr h="53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6948360" y="1773360"/>
          <a:ext cx="1656000" cy="1617480"/>
        </p:xfrm>
        <a:graphic>
          <a:graphicData uri="http://schemas.openxmlformats.org/drawingml/2006/table">
            <a:tbl>
              <a:tblPr/>
              <a:tblGrid>
                <a:gridCol w="551880"/>
                <a:gridCol w="552240"/>
                <a:gridCol w="551880"/>
              </a:tblGrid>
              <a:tr h="53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539640" y="4149720"/>
          <a:ext cx="1656000" cy="1617840"/>
        </p:xfrm>
        <a:graphic>
          <a:graphicData uri="http://schemas.openxmlformats.org/drawingml/2006/table">
            <a:tbl>
              <a:tblPr/>
              <a:tblGrid>
                <a:gridCol w="551880"/>
                <a:gridCol w="552240"/>
                <a:gridCol w="551880"/>
              </a:tblGrid>
              <a:tr h="53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2700360" y="4149720"/>
          <a:ext cx="1655640" cy="1617840"/>
        </p:xfrm>
        <a:graphic>
          <a:graphicData uri="http://schemas.openxmlformats.org/drawingml/2006/table">
            <a:tbl>
              <a:tblPr/>
              <a:tblGrid>
                <a:gridCol w="551880"/>
                <a:gridCol w="551880"/>
                <a:gridCol w="551880"/>
              </a:tblGrid>
              <a:tr h="53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4788000" y="4149720"/>
          <a:ext cx="1655640" cy="1617840"/>
        </p:xfrm>
        <a:graphic>
          <a:graphicData uri="http://schemas.openxmlformats.org/drawingml/2006/table">
            <a:tbl>
              <a:tblPr/>
              <a:tblGrid>
                <a:gridCol w="576000"/>
                <a:gridCol w="527040"/>
                <a:gridCol w="55260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6948360" y="4149720"/>
          <a:ext cx="1656000" cy="1617840"/>
        </p:xfrm>
        <a:graphic>
          <a:graphicData uri="http://schemas.openxmlformats.org/drawingml/2006/table">
            <a:tbl>
              <a:tblPr/>
              <a:tblGrid>
                <a:gridCol w="551880"/>
                <a:gridCol w="552240"/>
                <a:gridCol w="551880"/>
              </a:tblGrid>
              <a:tr h="53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0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0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1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880"/>
                            </p:stCondLst>
                            <p:childTnLst>
                              <p:par>
                                <p:cTn id="8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3880"/>
                            </p:stCondLst>
                            <p:childTnLst>
                              <p:par>
                                <p:cTn id="8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880"/>
                            </p:stCondLst>
                            <p:childTnLst>
                              <p:par>
                                <p:cTn id="8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7880"/>
                            </p:stCondLst>
                            <p:childTnLst>
                              <p:par>
                                <p:cTn id="8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9880"/>
                            </p:stCondLst>
                            <p:childTnLst>
                              <p:par>
                                <p:cTn id="8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1880"/>
                            </p:stCondLst>
                            <p:childTnLst>
                              <p:par>
                                <p:cTn id="8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3880"/>
                            </p:stCondLst>
                            <p:childTnLst>
                              <p:par>
                                <p:cTn id="8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5880"/>
                            </p:stCondLst>
                            <p:childTnLst>
                              <p:par>
                                <p:cTn id="8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Симво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1280" y="2997360"/>
            <a:ext cx="7921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китайцы назвали «ло – шу» и считали магическим – он использовался при заклинаниях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Поэтому квадратные таблицы чисел, обладающие таким удивительным свойством, с тех пор называют </a:t>
            </a:r>
            <a:r>
              <a:rPr b="0" i="1" lang="en-US" sz="3600" spc="-1" strike="noStrike">
                <a:solidFill>
                  <a:srgbClr val="eaeaea"/>
                </a:solidFill>
                <a:latin typeface="Times New Roman"/>
              </a:rPr>
              <a:t>магическими квадратами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780000" y="1268280"/>
            <a:ext cx="1541160" cy="15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0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2000"/>
                            </p:stCondLst>
                            <p:childTnLst>
                              <p:par>
                                <p:cTn id="8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3000"/>
                            </p:stCondLst>
                            <p:childTnLst>
                              <p:par>
                                <p:cTn id="8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2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7:49:14Z</dcterms:created>
  <dc:creator>Варвара</dc:creator>
  <dc:description/>
  <dc:language>en-US</dc:language>
  <cp:lastModifiedBy>Татьяна</cp:lastModifiedBy>
  <dcterms:modified xsi:type="dcterms:W3CDTF">2009-01-25T18:41:52Z</dcterms:modified>
  <cp:revision>51</cp:revision>
  <dc:subject/>
  <dc:title>Магические квадраты</dc:title>
</cp:coreProperties>
</file>